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11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E622B-8699-4804-A8E0-955287A197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57D9D-0494-4CC6-BF24-6C5FC80033BE}" type="slidenum">
              <a:rPr b="0" lang="en-US" sz="1200" spc="-1" strike="noStrike">
                <a:solidFill>
                  <a:srgbClr val="0033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52BF-5460-43F8-A3AE-828CF0773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7A18-84B7-4A31-BD59-2A376685E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F048-C88C-401C-BF8C-B65A80000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2375-307D-4CED-9349-AACC644DC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7256B-0840-4286-8A6F-1CCC1F8BE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BFA59-C3DC-4925-B285-AFBF96EEE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E62E5-731F-4E11-903C-27DF4D053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D12AB-1756-467C-AB95-4DF3B6833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33984-23B3-45DA-AE18-AA46738EE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77453-E6FB-4168-B6C4-1DD302D99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56D9F-4F0F-43FB-BBB2-5B4AB10EF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7064-057A-4283-997C-E4BC6597E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70D65-DAF5-4358-B814-D1E144BF8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BB440-AA7C-4DBB-BC47-8D18D8C6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1E670-B1F3-4961-83D7-B1AF66D8C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ADDD3-7733-4FD6-B718-BD4B43FC4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80482-A87B-496C-8C28-E861A0401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50FA-2454-408A-B14F-BA6EADCC9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FAE5-997A-4B6D-87CB-EACB113B6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70E4-377E-45AF-BAE0-70C9AA535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63D0-15A3-40BD-825C-F75E4E4C0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57DA-2B81-4F0F-9F41-6AF63E10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C51F-78E5-4E88-B677-4CADB7E7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FFBB-E8DA-43E8-8F27-76168116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537CF-D031-474A-9A0E-A51151981E0C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FCD24-444E-4CC9-A8F0-0EB86808D831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Students’ Questioning in the  Secondary Classroom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English 384/584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July 26, 2010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">
            <a:hlinkClick r:id="" action="ppaction://hlinkshowjump?jump=previousslide"/>
          </p:cNvPr>
          <p:cNvSpPr/>
          <p:nvPr/>
        </p:nvSpPr>
        <p:spPr>
          <a:xfrm>
            <a:off x="228600" y="62485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10800"/>
                </a:moveTo>
                <a:lnTo>
                  <a:pt x="23213" y="3794"/>
                </a:lnTo>
                <a:lnTo>
                  <a:pt x="23213" y="17806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">
            <a:hlinkClick r:id="" action="ppaction://hlinkshowjump?jump=endshow"/>
          </p:cNvPr>
          <p:cNvSpPr/>
          <p:nvPr/>
        </p:nvSpPr>
        <p:spPr>
          <a:xfrm>
            <a:off x="228600" y="57913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tudent Passivity - Classroom Factor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863960" y="2438280"/>
            <a:ext cx="39038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eacher domina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Peer pressur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ypes of activiti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lf-confidenc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Unsure how to ask good ques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49240" y="2214720"/>
            <a:ext cx="3822840" cy="38811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ardhaugh’s Speech Ac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09640" y="3352680"/>
            <a:ext cx="79581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e functional approach of sentences.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>
            <a:hlinkClick r:id="" action="ppaction://hlinkshowjump?jump=previousslide"/>
          </p:cNvPr>
          <p:cNvSpPr/>
          <p:nvPr/>
        </p:nvSpPr>
        <p:spPr>
          <a:xfrm>
            <a:off x="152280" y="62485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10800"/>
                </a:moveTo>
                <a:lnTo>
                  <a:pt x="23213" y="3794"/>
                </a:lnTo>
                <a:lnTo>
                  <a:pt x="23213" y="17806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">
            <a:hlinkClick r:id="" action="ppaction://hlinkshowjump?jump=endshow"/>
          </p:cNvPr>
          <p:cNvSpPr/>
          <p:nvPr/>
        </p:nvSpPr>
        <p:spPr>
          <a:xfrm>
            <a:off x="152280" y="57913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o…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Ronald Wardhaugh, professor emeritus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University of Toront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Talk and Actio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n Introduction to Sociolinguistics (2006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>
            <a:hlinkClick r:id="" action="ppaction://hlinkshowjump?jump=previousslide"/>
          </p:cNvPr>
          <p:cNvSpPr/>
          <p:nvPr/>
        </p:nvSpPr>
        <p:spPr>
          <a:xfrm>
            <a:off x="152280" y="62485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10800"/>
                </a:moveTo>
                <a:lnTo>
                  <a:pt x="23213" y="3794"/>
                </a:lnTo>
                <a:lnTo>
                  <a:pt x="23213" y="17806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">
            <a:hlinkClick r:id="" action="ppaction://hlinkshowjump?jump=endshow"/>
          </p:cNvPr>
          <p:cNvSpPr/>
          <p:nvPr/>
        </p:nvSpPr>
        <p:spPr>
          <a:xfrm>
            <a:off x="152280" y="57913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at…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ccording to Wardhaugh…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onversations not only make statements, they perform actions in the world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Establish friendship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chieve coopera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Create a foundation for future interac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>
            <a:hlinkClick r:id="" action="ppaction://hlinkshowjump?jump=previousslide"/>
          </p:cNvPr>
          <p:cNvSpPr/>
          <p:nvPr/>
        </p:nvSpPr>
        <p:spPr>
          <a:xfrm>
            <a:off x="152280" y="62485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10800"/>
                </a:moveTo>
                <a:lnTo>
                  <a:pt x="23213" y="3794"/>
                </a:lnTo>
                <a:lnTo>
                  <a:pt x="23213" y="17806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>
            <a:hlinkClick r:id="" action="ppaction://hlinkshowjump?jump=endshow"/>
          </p:cNvPr>
          <p:cNvSpPr/>
          <p:nvPr/>
        </p:nvSpPr>
        <p:spPr>
          <a:xfrm>
            <a:off x="152280" y="57913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n example…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onstative utterances:  “I had a busy day today.”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Connected with events or happening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Ethical propositions:  “Thou shalt not kill.”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rve as guidelines to behavior in some world or another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>
            <a:hlinkClick r:id="" action="ppaction://hlinkshowjump?jump=previousslide"/>
          </p:cNvPr>
          <p:cNvSpPr/>
          <p:nvPr/>
        </p:nvSpPr>
        <p:spPr>
          <a:xfrm>
            <a:off x="152280" y="62485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10800"/>
                </a:moveTo>
                <a:lnTo>
                  <a:pt x="23213" y="3794"/>
                </a:lnTo>
                <a:lnTo>
                  <a:pt x="23213" y="17806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>
            <a:hlinkClick r:id="" action="ppaction://hlinkshowjump?jump=endshow"/>
          </p:cNvPr>
          <p:cNvSpPr/>
          <p:nvPr/>
        </p:nvSpPr>
        <p:spPr>
          <a:xfrm>
            <a:off x="152280" y="57913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or our purpose…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e Performative utterance:  “I do.”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Not only saying but doing something if certain real-world conditions are met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7" name="">
            <a:hlinkClick r:id="" action="ppaction://hlinkshowjump?jump=previousslide"/>
          </p:cNvPr>
          <p:cNvSpPr/>
          <p:nvPr/>
        </p:nvSpPr>
        <p:spPr>
          <a:xfrm>
            <a:off x="152280" y="62485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10800"/>
                </a:moveTo>
                <a:lnTo>
                  <a:pt x="23213" y="3794"/>
                </a:lnTo>
                <a:lnTo>
                  <a:pt x="23213" y="17806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8" name="">
            <a:hlinkClick r:id="" action="ppaction://hlinkshowjump?jump=endshow"/>
          </p:cNvPr>
          <p:cNvSpPr/>
          <p:nvPr/>
        </p:nvSpPr>
        <p:spPr>
          <a:xfrm>
            <a:off x="152280" y="57913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ustin’s Five categories…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Performativ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Verdictiv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987840" indent="-2077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Giving a verdict, estimate, grade, or appraisa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99960" indent="-2077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Guilty as charged.”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3" marL="1299960" indent="-2077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You got an A on your test.”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Exercitiv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987840" indent="-2077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Exercising of powers, rights, or influenc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99960" indent="-2077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I pronounce you husband and wife.”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3" marL="1299960" indent="-2077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Congratulations!  You have just graduated from college.”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1" name="">
            <a:hlinkClick r:id="" action="ppaction://hlinkshowjump?jump=previousslide"/>
          </p:cNvPr>
          <p:cNvSpPr/>
          <p:nvPr/>
        </p:nvSpPr>
        <p:spPr>
          <a:xfrm>
            <a:off x="152280" y="62485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10800"/>
                </a:moveTo>
                <a:lnTo>
                  <a:pt x="23213" y="3794"/>
                </a:lnTo>
                <a:lnTo>
                  <a:pt x="23213" y="17806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2" name="">
            <a:hlinkClick r:id="" action="ppaction://hlinkshowjump?jump=endshow"/>
          </p:cNvPr>
          <p:cNvSpPr/>
          <p:nvPr/>
        </p:nvSpPr>
        <p:spPr>
          <a:xfrm>
            <a:off x="152280" y="57913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ustin’s Five categories…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698400" indent="-26856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Commissiv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romising or undertaking, announcing an intent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I hereby bequeath”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I intent to teach the best way I know how.”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Behabitiv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pologizing, congratulating, blessing, cursing, or challengin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I apologize”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I challenge you to learn.”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ustin’s Five categories…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Expositiv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Refers to how one fits an utterance into an argument or exposit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428840" indent="-228600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I argue, I reply, I assume…”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3" marL="1428840" indent="-228600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I argue in favor of my learning outcomes.”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nd so…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3366"/>
                </a:solidFill>
                <a:latin typeface="Times New Roman"/>
              </a:rPr>
              <a:t>A speech act…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Times New Roman"/>
              </a:rPr>
              <a:t>In some way changes the conditions that exist in the world.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Times New Roman"/>
              </a:rPr>
              <a:t>For example: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64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en-US" sz="2600" spc="-1" strike="noStrike">
                <a:solidFill>
                  <a:srgbClr val="003366"/>
                </a:solidFill>
                <a:latin typeface="Times New Roman"/>
              </a:rPr>
              <a:t>I sentence you to five years in jail.”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64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en-US" sz="2600" spc="-1" strike="noStrike">
                <a:solidFill>
                  <a:srgbClr val="003366"/>
                </a:solidFill>
                <a:latin typeface="Times New Roman"/>
              </a:rPr>
              <a:t>I sentence you to two hours of detention.”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64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en-US" sz="2600" spc="-1" strike="noStrike">
                <a:solidFill>
                  <a:srgbClr val="003366"/>
                </a:solidFill>
                <a:latin typeface="Times New Roman"/>
              </a:rPr>
              <a:t>Hello.  How are you?”  (friendly)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64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en-US" sz="2600" spc="-1" strike="noStrike">
                <a:solidFill>
                  <a:srgbClr val="003366"/>
                </a:solidFill>
                <a:latin typeface="Times New Roman"/>
              </a:rPr>
              <a:t>You jerk!”  (not so friendly)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75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troduction the Group Member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866840" y="2214360"/>
            <a:ext cx="3900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ae Tha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ary Education Majo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3" name="sae" descr=""/>
          <p:cNvPicPr/>
          <p:nvPr/>
        </p:nvPicPr>
        <p:blipFill>
          <a:blip r:embed="rId1"/>
          <a:stretch/>
        </p:blipFill>
        <p:spPr>
          <a:xfrm>
            <a:off x="1363680" y="2214720"/>
            <a:ext cx="2792520" cy="3881160"/>
          </a:xfrm>
          <a:prstGeom prst="rect">
            <a:avLst/>
          </a:prstGeom>
          <a:ln w="0">
            <a:noFill/>
          </a:ln>
        </p:spPr>
      </p:pic>
      <p:sp>
        <p:nvSpPr>
          <p:cNvPr id="304" name="">
            <a:hlinkClick r:id="" action="ppaction://hlinkshowjump?jump=previousslide"/>
          </p:cNvPr>
          <p:cNvSpPr/>
          <p:nvPr/>
        </p:nvSpPr>
        <p:spPr>
          <a:xfrm>
            <a:off x="152280" y="62485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10800"/>
                </a:moveTo>
                <a:lnTo>
                  <a:pt x="23213" y="3794"/>
                </a:lnTo>
                <a:lnTo>
                  <a:pt x="23213" y="17806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">
            <a:hlinkClick r:id="" action="ppaction://hlinkshowjump?jump=endshow"/>
          </p:cNvPr>
          <p:cNvSpPr/>
          <p:nvPr/>
        </p:nvSpPr>
        <p:spPr>
          <a:xfrm>
            <a:off x="152280" y="57913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rue/Fals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 speech act is neither true nor false in itself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However, these claims may be made about its having been done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ym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Hymes' components of a speech event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Times New Roman"/>
              </a:rPr>
              <a:t>Setting- scene situation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Times New Roman"/>
              </a:rPr>
              <a:t>Participants- Speaker, Receiver, other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Times New Roman"/>
              </a:rPr>
              <a:t>Ends- outcomes and goals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Times New Roman"/>
              </a:rPr>
              <a:t>Act sequences- form and content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Times New Roman"/>
              </a:rPr>
              <a:t>Key- manner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Times New Roman"/>
              </a:rPr>
              <a:t>Instrumentalities- Channel, code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Times New Roman"/>
              </a:rPr>
              <a:t>Norms- of behavior and interpretation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Times New Roman"/>
              </a:rPr>
              <a:t>Genre- style, e.g. lecture, chat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ardhaugh says…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809640" y="243828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Once we begin to look at utterances from the point of view of what they do, it is possible to see every utterance as a speech act of one kind or other, that is, as having some functional value which might be quite independent of the actual words used and their grammatical arrangement.”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aver and Trudgill…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Being a listener to speech is not unlike being a detective.  The listener…has to construct, from an assortment of clues, the affective state of the speaker and a profile of his identity.”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mmunication Mode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78" name="Content Placeholder 5" descr="A Communication Model"/>
          <p:cNvPicPr/>
          <p:nvPr/>
        </p:nvPicPr>
        <p:blipFill>
          <a:blip r:embed="rId1"/>
          <a:stretch/>
        </p:blipFill>
        <p:spPr>
          <a:xfrm>
            <a:off x="1219320" y="2286000"/>
            <a:ext cx="746748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 final wor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809640" y="3200040"/>
            <a:ext cx="795816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All the world is a stage, and we are the players!”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Wardhaugh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plic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863960" y="2590920"/>
            <a:ext cx="390384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e Critical Thinke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i="1" lang="en-US" sz="2000" spc="-1" strike="noStrike">
                <a:solidFill>
                  <a:srgbClr val="003366"/>
                </a:solidFill>
                <a:latin typeface="Times New Roman"/>
              </a:rPr>
              <a:t>If good thinkers are good questioners then are good questioners good thinkers?”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(King, 13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Times New Roman"/>
              </a:rPr>
              <a:t>Inspiring Student Inquiry</a:t>
            </a:r>
            <a:endParaRPr b="0" lang="en-US" sz="23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3" name="Picture 2" descr="ridller.jpg image by brigante133"/>
          <p:cNvPicPr/>
          <p:nvPr/>
        </p:nvPicPr>
        <p:blipFill>
          <a:blip r:embed="rId1"/>
          <a:stretch/>
        </p:blipFill>
        <p:spPr>
          <a:xfrm>
            <a:off x="1436760" y="2214720"/>
            <a:ext cx="2646360" cy="38811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Critical Thinke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685800" y="2590560"/>
            <a:ext cx="795816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What is Critical Thinking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"Critical thinking is the intellectually disciplined process of actively and skillfully conceptualizing, applying, analyzing, synthesizing, and/or evaluating information gathered from, or generated by, observation, experience, reflection, reasoning, or communication, as a guide to belief and action”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(Scriven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Critical Thinke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809640" y="2214360"/>
            <a:ext cx="81057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keptical but open-minded              Looks at different points of view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     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Values fair-mindedness                    Respects evidence &amp; reasoning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     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Respects clarity &amp; precision             Will change positions when reasoning                     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                                                                        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leads them to           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8" name="Picture 4" descr="http://www.bigcheesebadges.com/images/the_riddler.png"/>
          <p:cNvPicPr/>
          <p:nvPr/>
        </p:nvPicPr>
        <p:blipFill>
          <a:blip r:embed="rId1"/>
          <a:stretch/>
        </p:blipFill>
        <p:spPr>
          <a:xfrm>
            <a:off x="4495680" y="4419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4" descr="http://www.bigcheesebadges.com/images/the_riddler.png"/>
          <p:cNvPicPr/>
          <p:nvPr/>
        </p:nvPicPr>
        <p:blipFill>
          <a:blip r:embed="rId2"/>
          <a:stretch/>
        </p:blipFill>
        <p:spPr>
          <a:xfrm>
            <a:off x="838080" y="4419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4" descr="http://www.bigcheesebadges.com/images/the_riddler.png"/>
          <p:cNvPicPr/>
          <p:nvPr/>
        </p:nvPicPr>
        <p:blipFill>
          <a:blip r:embed="rId3"/>
          <a:stretch/>
        </p:blipFill>
        <p:spPr>
          <a:xfrm>
            <a:off x="4495680" y="3733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http://www.bigcheesebadges.com/images/the_riddler.png"/>
          <p:cNvPicPr/>
          <p:nvPr/>
        </p:nvPicPr>
        <p:blipFill>
          <a:blip r:embed="rId4"/>
          <a:stretch/>
        </p:blipFill>
        <p:spPr>
          <a:xfrm>
            <a:off x="838080" y="5105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4" descr="http://www.bigcheesebadges.com/images/the_riddler.png"/>
          <p:cNvPicPr/>
          <p:nvPr/>
        </p:nvPicPr>
        <p:blipFill>
          <a:blip r:embed="rId5"/>
          <a:stretch/>
        </p:blipFill>
        <p:spPr>
          <a:xfrm>
            <a:off x="4495680" y="5105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4" descr="http://www.bigcheesebadges.com/images/the_riddler.png"/>
          <p:cNvPicPr/>
          <p:nvPr/>
        </p:nvPicPr>
        <p:blipFill>
          <a:blip r:embed="rId6"/>
          <a:stretch/>
        </p:blipFill>
        <p:spPr>
          <a:xfrm>
            <a:off x="838080" y="3733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How to Build Your Own Critical Thinker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809640" y="2666520"/>
            <a:ext cx="79581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eaching How to Ask Question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             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Question Stems (refer to handout)     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             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emantics &amp; Syntax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trategi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             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Reciprocal Peer Questioning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             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Reader’s Question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             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Conference-Style Learning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96" name="Picture 2" descr="http://www.orchardpropertyservices.co.uk/uploads/images/Self%20Build%20House.jpg"/>
          <p:cNvPicPr/>
          <p:nvPr/>
        </p:nvPicPr>
        <p:blipFill>
          <a:blip r:embed="rId1"/>
          <a:stretch/>
        </p:blipFill>
        <p:spPr>
          <a:xfrm>
            <a:off x="5943600" y="3276720"/>
            <a:ext cx="2362320" cy="294948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troduction the Group Member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866840" y="2214360"/>
            <a:ext cx="3900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Mike Slowinski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High School English teache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809280" y="2214360"/>
            <a:ext cx="3902040" cy="3881160"/>
          </a:xfrm>
          <a:prstGeom prst="rect">
            <a:avLst/>
          </a:prstGeom>
          <a:ln w="0">
            <a:noFill/>
          </a:ln>
        </p:spPr>
      </p:pic>
      <p:sp>
        <p:nvSpPr>
          <p:cNvPr id="309" name="">
            <a:hlinkClick r:id="" action="ppaction://hlinkshowjump?jump=previousslide"/>
          </p:cNvPr>
          <p:cNvSpPr/>
          <p:nvPr/>
        </p:nvSpPr>
        <p:spPr>
          <a:xfrm>
            <a:off x="152280" y="62485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10800"/>
                </a:moveTo>
                <a:lnTo>
                  <a:pt x="23213" y="3794"/>
                </a:lnTo>
                <a:lnTo>
                  <a:pt x="23213" y="17806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0" name="">
            <a:hlinkClick r:id="" action="ppaction://hlinkshowjump?jump=endshow"/>
          </p:cNvPr>
          <p:cNvSpPr/>
          <p:nvPr/>
        </p:nvSpPr>
        <p:spPr>
          <a:xfrm>
            <a:off x="152280" y="57913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spiring Student Inquir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809640" y="2285640"/>
            <a:ext cx="7958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ooperative Learnin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Higher achievement &amp; greater productivity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More caring, supportive &amp; committed relationship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Greater psychological health, social competence &amp; self-esteem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             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(Kagan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Examples…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        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99" name="Picture 4" descr="http://learningandteaching.dal.ca/taguide/Image51.gif"/>
          <p:cNvPicPr/>
          <p:nvPr/>
        </p:nvPicPr>
        <p:blipFill>
          <a:blip r:embed="rId1"/>
          <a:stretch/>
        </p:blipFill>
        <p:spPr>
          <a:xfrm>
            <a:off x="5105520" y="4419720"/>
            <a:ext cx="2971800" cy="163656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6" descr="C:\Users\Kathy\AppData\Local\Microsoft\Windows\Temporary Internet Files\Content.IE5\X2G90D1U\MC900312146[1].wmf"/>
          <p:cNvPicPr/>
          <p:nvPr/>
        </p:nvPicPr>
        <p:blipFill>
          <a:blip r:embed="rId2"/>
          <a:stretch/>
        </p:blipFill>
        <p:spPr>
          <a:xfrm>
            <a:off x="1143000" y="3352680"/>
            <a:ext cx="565200" cy="3589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6" descr="C:\Users\Kathy\AppData\Local\Microsoft\Windows\Temporary Internet Files\Content.IE5\X2G90D1U\MC900312146[1].wmf"/>
          <p:cNvPicPr/>
          <p:nvPr/>
        </p:nvPicPr>
        <p:blipFill>
          <a:blip r:embed="rId3"/>
          <a:stretch/>
        </p:blipFill>
        <p:spPr>
          <a:xfrm>
            <a:off x="1143000" y="2971800"/>
            <a:ext cx="565200" cy="3589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6" descr="C:\Users\Kathy\AppData\Local\Microsoft\Windows\Temporary Internet Files\Content.IE5\X2G90D1U\MC900312146[1].wmf"/>
          <p:cNvPicPr/>
          <p:nvPr/>
        </p:nvPicPr>
        <p:blipFill>
          <a:blip r:embed="rId4"/>
          <a:stretch/>
        </p:blipFill>
        <p:spPr>
          <a:xfrm>
            <a:off x="1143000" y="3733920"/>
            <a:ext cx="565200" cy="3585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ork Cite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09640" y="2057400"/>
            <a:ext cx="7958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Ciardiello, Angelo. “Did You Ask a Good Question Today? Alternative Cognitive and Metacognitive Strategies.” </a:t>
            </a:r>
            <a:r>
              <a:rPr b="0" lang="en-US" sz="1200" spc="-1" strike="noStrike" u="sng">
                <a:solidFill>
                  <a:srgbClr val="003366"/>
                </a:solidFill>
                <a:uFillTx/>
                <a:latin typeface="Times New Roman"/>
              </a:rPr>
              <a:t>Journal of Adolescent and Adult Literacy</a:t>
            </a: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. 42.3 (Nov. 1998): 210-220. </a:t>
            </a:r>
            <a:r>
              <a:rPr b="0" lang="en-US" sz="1200" spc="-1" strike="noStrike" u="sng">
                <a:solidFill>
                  <a:srgbClr val="003366"/>
                </a:solidFill>
                <a:uFillTx/>
                <a:latin typeface="Times New Roman"/>
              </a:rPr>
              <a:t>EBSCOhost</a:t>
            </a: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. Polk Library, UW-Oshkosh, Oshkosh, WI. 23 July 2010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marL="31536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Good, Thomas, Ricky Slavings, Kathleen Hobson Harel, and Hugh Emerson. “Student Passivity: A Study of Question Asking in K-12 Classrooms.” </a:t>
            </a:r>
            <a:r>
              <a:rPr b="0" lang="en-US" sz="1200" spc="-1" strike="noStrike" u="sng">
                <a:solidFill>
                  <a:srgbClr val="003366"/>
                </a:solidFill>
                <a:uFillTx/>
                <a:latin typeface="Times New Roman"/>
              </a:rPr>
              <a:t>Sociology of Education</a:t>
            </a: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. 60 (July 1987): 181-199. </a:t>
            </a:r>
            <a:r>
              <a:rPr b="0" lang="en-US" sz="1200" spc="-1" strike="noStrike" u="sng">
                <a:solidFill>
                  <a:srgbClr val="003366"/>
                </a:solidFill>
                <a:uFillTx/>
                <a:latin typeface="Times New Roman"/>
              </a:rPr>
              <a:t>EBSCOhost</a:t>
            </a: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. Polk Library, UW-Oshkosh, Oshkosh, WI. 23 July 2010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marL="31536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</a:t>
            </a:r>
            <a:r>
              <a:rPr b="0" lang="en-US" sz="1200" spc="-1" strike="noStrike" u="sng">
                <a:solidFill>
                  <a:srgbClr val="003366"/>
                </a:solidFill>
                <a:uFillTx/>
                <a:latin typeface="Times New Roman"/>
              </a:rPr>
              <a:t> http://www.harding.edu/dlee/bloom.pdf</a:t>
            </a: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gt; (21 July 2010)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marL="31536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Kagan, Spencer.  </a:t>
            </a:r>
            <a:r>
              <a:rPr b="0" lang="en-US" sz="1200" spc="-1" strike="noStrike" u="sng">
                <a:solidFill>
                  <a:srgbClr val="003366"/>
                </a:solidFill>
                <a:uFillTx/>
                <a:latin typeface="Times New Roman"/>
              </a:rPr>
              <a:t>Cooperative Learning</a:t>
            </a: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.  San Clemente: Kagan Publishing, 1994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marL="31536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King, Allison.  “Designing the Instructional Process to Enhance Critical Thinking Across the Curriculum.”  </a:t>
            </a:r>
            <a:r>
              <a:rPr b="0" lang="en-US" sz="1200" spc="-1" strike="noStrike" u="sng">
                <a:solidFill>
                  <a:srgbClr val="003366"/>
                </a:solidFill>
                <a:uFillTx/>
                <a:latin typeface="Times New Roman"/>
              </a:rPr>
              <a:t>Teaching of Psychology</a:t>
            </a: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 22 (1995): 13-17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marL="31536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Scriven, Michael and Richard Paul.  “Defining Critical Thinking: A Draft Statement for the National Council for Excellence in Critical Thinking.” (1996) Available  &lt;</a:t>
            </a:r>
            <a:r>
              <a:rPr b="0" lang="en-US" sz="1200" spc="-1" strike="noStrike" u="sng">
                <a:solidFill>
                  <a:srgbClr val="003366"/>
                </a:solidFill>
                <a:uFillTx/>
                <a:latin typeface="Times New Roman"/>
              </a:rPr>
              <a:t>http://www.criticalthinking.org/University/univlibrary/library.nclk</a:t>
            </a: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 &gt;  (21 July 2010)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marL="31536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Underwood, Marion K. and Rebecca L. Wald. “Conference-Style Learning: A Method for Fostering Critical Thinking with Heart.” </a:t>
            </a:r>
            <a:r>
              <a:rPr b="0" lang="en-US" sz="1200" spc="-1" strike="noStrike" u="sng">
                <a:solidFill>
                  <a:srgbClr val="003366"/>
                </a:solidFill>
                <a:uFillTx/>
                <a:latin typeface="Times New Roman"/>
              </a:rPr>
              <a:t>Teaching of Psychology</a:t>
            </a: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 22 (1995): 17-21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marL="31536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Wardhaugh, R. (2008) </a:t>
            </a: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An Introduction to Sociolinguistics</a:t>
            </a: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, 5th Edition, Blackwell Publishing, MA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marL="31536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troduction the Group Member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809280" y="2214360"/>
            <a:ext cx="3900600" cy="388116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866840" y="2214360"/>
            <a:ext cx="3900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Dorothy Seehause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Composition teache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" name="">
            <a:hlinkClick r:id="" action="ppaction://hlinkshowjump?jump=previousslide"/>
          </p:cNvPr>
          <p:cNvSpPr/>
          <p:nvPr/>
        </p:nvSpPr>
        <p:spPr>
          <a:xfrm>
            <a:off x="152280" y="62485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10800"/>
                </a:moveTo>
                <a:lnTo>
                  <a:pt x="23213" y="3794"/>
                </a:lnTo>
                <a:lnTo>
                  <a:pt x="23213" y="17806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">
            <a:hlinkClick r:id="" action="ppaction://hlinkshowjump?jump=endshow"/>
          </p:cNvPr>
          <p:cNvSpPr/>
          <p:nvPr/>
        </p:nvSpPr>
        <p:spPr>
          <a:xfrm>
            <a:off x="152280" y="57913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troduction the Group Member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809280" y="2214360"/>
            <a:ext cx="3900600" cy="388116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866840" y="2214360"/>
            <a:ext cx="3900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Kathy Record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Elementary Education Majo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9" name="">
            <a:hlinkClick r:id="" action="ppaction://hlinkshowjump?jump=previousslide"/>
          </p:cNvPr>
          <p:cNvSpPr/>
          <p:nvPr/>
        </p:nvSpPr>
        <p:spPr>
          <a:xfrm>
            <a:off x="152280" y="62485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10800"/>
                </a:moveTo>
                <a:lnTo>
                  <a:pt x="23213" y="3794"/>
                </a:lnTo>
                <a:lnTo>
                  <a:pt x="23213" y="17806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0" name="">
            <a:hlinkClick r:id="" action="ppaction://hlinkshowjump?jump=endshow"/>
          </p:cNvPr>
          <p:cNvSpPr/>
          <p:nvPr/>
        </p:nvSpPr>
        <p:spPr>
          <a:xfrm>
            <a:off x="152280" y="57913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Quest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eachers: What are the quality of questions have your students asked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tudents: What types of question have you heard in class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523880" y="685800"/>
            <a:ext cx="1295640" cy="1268280"/>
          </a:xfrm>
          <a:prstGeom prst="rect">
            <a:avLst/>
          </a:prstGeom>
          <a:ln w="0">
            <a:noFill/>
          </a:ln>
        </p:spPr>
      </p:pic>
      <p:sp>
        <p:nvSpPr>
          <p:cNvPr id="324" name="">
            <a:hlinkClick r:id="" action="ppaction://hlinkshowjump?jump=previousslide"/>
          </p:cNvPr>
          <p:cNvSpPr/>
          <p:nvPr/>
        </p:nvSpPr>
        <p:spPr>
          <a:xfrm>
            <a:off x="152280" y="62485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10800"/>
                </a:moveTo>
                <a:lnTo>
                  <a:pt x="23213" y="3794"/>
                </a:lnTo>
                <a:lnTo>
                  <a:pt x="23213" y="17806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5" name="">
            <a:hlinkClick r:id="" action="ppaction://hlinkshowjump?jump=endshow"/>
          </p:cNvPr>
          <p:cNvSpPr/>
          <p:nvPr/>
        </p:nvSpPr>
        <p:spPr>
          <a:xfrm>
            <a:off x="152280" y="57913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esentation Preview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66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What’s happening in the classroom (Mike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66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Explain the questions sociologuistically (Dorothy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66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pplication and Strategies(Kathy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8" name="">
            <a:hlinkClick r:id="" action="ppaction://hlinkshowjump?jump=previousslide"/>
          </p:cNvPr>
          <p:cNvSpPr/>
          <p:nvPr/>
        </p:nvSpPr>
        <p:spPr>
          <a:xfrm>
            <a:off x="152280" y="62485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10800"/>
                </a:moveTo>
                <a:lnTo>
                  <a:pt x="23213" y="3794"/>
                </a:lnTo>
                <a:lnTo>
                  <a:pt x="23213" y="17806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9" name="">
            <a:hlinkClick r:id="" action="ppaction://hlinkshowjump?jump=endshow"/>
          </p:cNvPr>
          <p:cNvSpPr/>
          <p:nvPr/>
        </p:nvSpPr>
        <p:spPr>
          <a:xfrm>
            <a:off x="152280" y="57913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tudent Quest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95280" y="56383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What’s happening in the classroom?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828800" y="2362320"/>
            <a:ext cx="6019920" cy="28191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tudent Passivit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863960" y="2437920"/>
            <a:ext cx="3903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tudents Not Asking Ques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Electronic  Vs. Face-to-Fac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homas Good’s Passivity Mod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Procedural Questions Instead of Conceptua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09640" y="2286000"/>
            <a:ext cx="3902040" cy="38862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oua</cp:lastModifiedBy>
  <dcterms:modified xsi:type="dcterms:W3CDTF">2010-07-25T15:56:36Z</dcterms:modified>
  <cp:revision>5</cp:revision>
  <dc:subject/>
  <dc:title>The Sociolinguistic Aspects of Students’ Questioning</dc:title>
</cp:coreProperties>
</file>